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FB38-55CE-4728-8EFC-94AAE5F698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E42C-49CB-4DCB-9FFD-E76320AD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775018-1647-4B74-B10A-692D557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C1E879-F071-4ABA-81B6-9BB9F04A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DF436-9DF8-4551-80A3-F3C99B59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4CBD88-E660-4510-9836-94D98318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B47927-2096-42A6-9710-CFB20AA3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7C2904-6B97-42E6-911A-EBC21C5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27EC6B-2142-4E0C-A7D0-D944F756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5D67FB-E015-44F9-83A2-56F11D1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A7027F-283B-4A5D-AED8-DA1C1C86D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B7E8E-CDE0-4E6C-9D13-E36E277AE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5BCC-04CF-46EE-9614-9C3ACE6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9F9E-53AA-47CE-B584-B4255BA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487F2-866F-4791-A006-C417656A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3E568-B7DA-49B2-8654-A0420A1A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969A-57C4-4DF8-9F64-E92FDAB4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6DB63-2138-4927-8B63-1C2BADCA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6EF2-8401-4D59-AABC-8DAA4316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E77B-F4A1-4F86-A4C7-BAB9B5CC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CDB0-F1A1-400B-B46D-BD8F298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45BC3-DA1F-4F07-B9B8-38B857C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46353-0BFB-4927-BAE8-CBCFAB4C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8C46-93A9-468B-A246-A688127ED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66138-1798-46BE-A460-DD23EB907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9BA59-66D6-4394-8668-47909E7F3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E0EB0-E382-4964-9187-D5140565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70C2F6-E3B9-40BF-B6D5-52B49CD3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E9C55-1BF6-411E-805D-2BB9396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B9719-AEE4-45F3-A422-98739B46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50E810-EC1B-40B1-8F85-1D1E0D4E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930B1-CCC2-4BEB-AC83-FF175190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F1882-EE62-4BC4-B6C1-8D9E0F4F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9F2E6-2BA5-4999-80D8-CD374B6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FBA20-965F-4147-9876-2F316206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66287A-0E3D-43E0-BDAA-30098A3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B067A-97B9-4FA5-A4A4-2F49369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CC9B4-9F88-42E6-A86E-1F2133A3B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984BA-FA10-4CD5-B237-246A6EDC2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6CCCC-AEB7-4EF2-9E65-9487386D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F8FA0-F360-41D6-842C-F1EB5B4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A9B29-1087-447E-AB75-CE87770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121DB-11FB-4358-BB1C-2A6209FA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2EB80-0F1C-4A55-8DF7-2F14F2CE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A81DD-E252-45A5-86E0-611E4635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2528-0AEE-42D7-B4D6-0D06F77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9D6CE-958B-4E48-849C-EFAD9F04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5E09C-0824-466D-AD29-EC43D0A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F151D-E2A4-45DB-BEBB-C72D8821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DBC9F-5B49-4B10-B6A5-A7A8DE5D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C194D-4DED-495A-BEBF-E7076E529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78506-1AD9-4A8B-87B7-1A9659954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B091B-54EE-4032-8CFA-9CA037BC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35049-F9EB-4B27-A01E-429A7CD3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3E0A4-C814-49D9-B27B-7A5C509F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139D9-33DD-43E9-9041-CA858AC6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A4D9B-1325-42A3-95E8-BCB22AC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77555-F7F2-4455-8E82-F7EED68D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7C6D1-7E6E-434D-88AE-789CDDD4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4609C-18AD-480B-9D78-ED46429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1DDE8-0A93-4863-818E-1F2574B8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97FB-E748-45DF-92F1-E599708D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41615-D1EC-4143-B790-BE6E8723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0F21C-66F9-499C-8136-BECE294215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582B8-ACA0-4165-BD6D-97EFADFF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EB2A5-41C2-442F-AC01-8A65A575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A9A8A-B0F7-4000-A04D-608B85DF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E5266-7D05-4B0C-8E4C-9FB4D0EC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51F8A-53A8-4F9A-8E1E-C9116EC4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0F8C6-6F67-447D-9FC4-C728305D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065DB-0F9F-4B83-BECD-18915BF2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32608-330C-431D-B5B8-E7B0D4C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04F75-EDD1-49CA-A82B-156484C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2B593-28B9-4D09-8C6C-BFE8E4B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AC9FC-F261-4649-BB99-A5DD6C3B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10BFC-839D-4D2A-A536-B72D30A8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9077F-D4C3-47A6-8323-89B7542D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1772F-206E-4D94-8ADC-AC35FADA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1E322-E140-484B-B8F5-A9301DA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CCB52-EE48-4A52-A8ED-4B88D281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57E4F-265C-431E-AE6A-FAFD7A9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BC99E-FD30-493D-B80B-324DECE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9885C-459B-4BF6-AC4E-973C09EC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AF46-DDB1-49E5-9EFD-F7CB31D0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F67BE-DFF2-42FB-AF50-176B852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6855-EE76-4863-8908-057C2AF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137A3-6D6E-4049-92DB-D82B7E8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DCE50-780A-4396-9004-B9AC3614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96646-77A6-4166-85D3-DEFBFD3B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19F77-0A39-456A-A67F-995D8D78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AB4C8-37ED-4C37-8997-3D393889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635C0-FC3E-4B80-8D9A-ED3E7F31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0C91B-4B43-45DF-9974-1A152F9C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7ADE7-AC2A-4A75-9662-B10AE9D5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1B985-7E35-40D7-B055-EC6BDA3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2177B-267F-4247-96EF-2C8D725A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7FDF-ED2A-44A3-922A-5B97736F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C1BC8-AA1D-4EDA-B43E-FB89D97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5A23D-9044-4B9B-84A0-C75AF6C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ADEEF-6094-4B9B-968A-5CB86E1A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740E7-920A-42CF-8E40-A771B2B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6B8C7-2DBA-4BD8-A896-8825A37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7B551-2AA4-47F3-9A40-B05807F5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1CA82-DDE9-4A6E-BCF6-AF8AB76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1ADEE-6027-4077-8D34-EBEB81A1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D8632-2E5E-4E8D-9B02-99C5C375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D69A0-29FA-46C9-84A6-616EB905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D7767-E278-4E83-B830-FEFCCA2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FFCE5-8A96-48D2-BFB6-696825F0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C4A92-5FC9-44A3-BFCB-197EFF02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77373-136F-4F27-A7B9-FC8A097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C572-3154-41F6-A610-1BC2DBE6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D9C80-BEC4-4278-84FB-727A35D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E5A21-0BF1-4982-A8BE-62BBAEDD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A1FA0-4AA1-4B43-B66C-B1FC52B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BE241-635E-4671-A46D-4018188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99BCA-B722-48DE-B7C6-7CE7871F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65BBC-AE48-4694-8002-6369000E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F40C3-D4EB-42AA-B087-65ED5025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5EE4D-7554-4D6B-9439-6765E7EE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EE345-2011-4C99-AB9B-30A71F37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10312-B8C1-49E3-9B75-CE4E21CE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4D7EC-7378-46E5-881C-55D6D287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72B37-9BCF-47B4-85CD-7249665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18073-5175-4A4D-8A46-41683405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2D18B-1996-4052-8D3B-5281EAE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EAF14-45D5-4CD7-A297-756C791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B771B-B3EC-486E-916B-FCACD1C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BE97A-AE7F-4A71-9F88-4F07E4E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53904-8AC3-4F5D-AAB7-A0AAB2D5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D77B8-F07E-4AC2-805F-BEBEB90E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D1633-8A0E-4772-B371-7A2404A0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A229F-B259-4629-8BAC-30765B44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39659-65FA-4B9D-BCE6-D57A874F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B5492-EC6A-4989-8CD3-0FFA4A16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86A6B-D852-460E-81F9-FDD4D7E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CB1B7-6354-4610-9E73-C71A6964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5458C-D295-4361-8C17-7827C195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C705C-CD38-498F-A49B-7CEDA8D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4A962-89CA-4221-AC96-BE1B85B8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59662-A450-45F3-8E3E-30418A3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FDB07-0BF4-4E6E-B857-AE637C8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5244D-B069-40E1-AD9D-3CEAEF02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19A01D-2B3A-464A-B53F-C0A7FFA3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287A7-CEE9-4F1F-9E69-9A9FFFAE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EF872-8FF8-454A-BCF9-A86B70D6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D1718-EA82-4644-A479-E00AB1F4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50C59-292D-49E5-8A33-E5709919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164A5-94B2-4068-B1E9-7137D4C3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3D2E7-67B8-4D51-AF97-1006959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483BF-41B8-4A33-A3C6-BFE4C32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CEDEB-C678-4B06-BD49-2CBFCCF0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A2D9D-5582-42F1-A720-36809DD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4619F-11C6-4AF9-A004-99D0673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3FA19-CA47-4ECF-8461-5AA05AE9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122C6-573F-4496-85D3-AD455712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DFA76-AB33-404C-B182-FA50A572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D4532-4F34-4166-930B-79553E19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51EFF-AD5C-4DDF-8F7B-C6914EF5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5ADD9-D7B4-446A-A690-B95C70B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F4CA1-8A9D-438A-B952-FF1FC85D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C870E-0CDE-47BD-A4C6-38103B1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82002-DCF9-4A75-8937-A0BDA85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E76C0-2672-4ECA-A2D2-97DFCB2C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F08CA-D1AA-4429-8B40-3687642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5645D-13F9-4E23-A937-43C85E0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35A73-2889-4C70-B7CC-B44EF62A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A7761-CA82-40C4-8040-649829872C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A1E1F-CCBF-482E-BEC9-F6A3BFF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0D7BB-8AA1-4DC9-B49E-0477BA89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3EBA4-A28C-4E7E-8175-2F02BF5D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3DEA7-01D0-4492-91B3-9C433FC3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3DBC0-A5C3-4256-A2C3-B14F1AC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ED41B-6F8A-4911-8E9B-4526EC8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2C747-076F-4F57-918C-01813E5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7D16F-FFD3-4110-AD14-65540186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E6F42-3F91-4366-9EA9-7A531314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30CA1-EF6A-438D-AC05-FBC340B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EBAD7-B5C8-454B-BFE5-9559808B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722BE-7EEC-42B3-8ECE-E4D667C7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E693A-2325-4AA0-AAB6-248DCFA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0F630-6D0B-4913-929C-E31EE1B6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AA65F-215B-4487-B988-C7CC32DB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EE16F-C2D6-4DDC-96D8-12E58CA9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8A32D-4E04-48B2-A0FF-26176946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3E174-44D6-4CC1-8D7A-0EF7A00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7C8BDD-5996-452F-A75A-300E4DA4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44BDD-0F23-4590-9736-CD963E1C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20ED2-E0B2-4457-AEC3-8ADA08BB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73256-E36D-4249-B36A-FF779444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3B7AF-FF87-46A8-BB70-C7F6445B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819C6-166C-4136-9052-BDF97BF4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D1CDC6-6A53-41D9-8E14-E60F4107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8762A-B7F8-45D6-AD86-0565391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916A5-AB79-4680-A724-F804BCB6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59AC3-E9DC-4DE9-94E1-2B5685AC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A0F76-8338-46B1-B85B-41316610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26445-8A5E-481B-904E-9E05ABED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63F50-8EAC-4B64-9385-C4AAD060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ACA4F-63C4-4979-A607-499449C6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CCC9F-BA6F-4C30-B2B9-F95F346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EB19F-2664-4A15-8F0C-3157FA6A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164B4-CE7B-4791-8612-15F9FE7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C9991F-2D78-4F0D-8703-F31E8BA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C2210F-A004-43F1-928B-E70B344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03FC6-A227-4DDF-9394-AD7DE0B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73148-4A3F-41A8-840D-96F480EC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4DFC0E-8706-44E3-9DCE-517BE99B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19C14-3873-4748-B901-8C8676FA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6F3D5-93E0-4006-99B3-2EDB29F5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80966-3084-491A-B3D2-9B8762BC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530A-A214-4FB8-B267-085A3F7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3BA73-ABEF-4B89-82E1-C1F5BCCC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66183-3A62-46F2-943D-F0863574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AC0C5-8252-44DE-91CA-B1C47368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2CF34-DEA6-4AB3-BE44-474CEE80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C7267-A9DA-44B6-AC40-893A67C8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EE7C9-EA30-4C58-8C92-7E8A32D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02298-AF07-4914-891C-6336AA193C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46A7-BDCC-479B-BDB9-E42C6F876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E2FE-9B1D-40DE-9FD9-DA12DF07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D0C2-3D0D-44F2-ABF9-93D0464B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B2DB-6988-4A75-8674-DF9489F4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6267-F451-4559-A77D-80BB91A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7216-EF0B-4DF5-A7EB-996B30EB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4625-C8D2-40DC-8022-55D65EF9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E5FE-6003-412F-8AE2-6F2BF598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DFB3-524A-4575-AAC1-36EB9D05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2B01-4F4F-4F61-B662-DB5980C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AAD5-9426-4794-AF26-6A143EC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EB3E-BC56-4086-9219-84016421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1E7F-77E8-48FC-BBDB-A05211CCD5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8B4CB-EE6D-43AD-A450-2E204F6A3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21E8-D8FB-4AD5-A1F0-F935D58A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DB36E-D16B-4AC5-96A5-8355AE9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BAED6-EB57-4978-A161-D342237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FCA83-1010-4DC0-9CBF-8F0A8EEA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78B6A-B438-46A6-893A-9F785FB5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F1C38-39E2-49ED-83C3-F4473909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7C2C0-72B5-4568-9A09-0A4524C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73B95-779C-4DF8-B21F-0620DD58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DF1A8-76E1-496C-980D-5C9A897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80E46-1F2B-4A93-A879-C8E75B63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ACA6D-ED02-4519-ADC8-E1E378F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A8ED-F618-485A-9B4A-C350E590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09264-9A31-4776-9948-8FBF0F8E79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6B953-0C6D-46D4-BC64-7042F7F24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465E4F-7A66-4AA9-B54C-B9AC1640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E62A03-11F1-4764-9A09-B3A3436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17B0AB-040D-4901-A259-D05BB65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96507-5A89-45EB-A88A-BDC234F9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B8107-E0EF-4764-ACF9-67FB9339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30F15-FD2B-48E4-8C1B-7B31E69E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2A5CA-F948-4D86-89EF-4B010648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94CF6-7F09-4876-A611-46B8A0FF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436F-82EB-4BDE-A092-71B4EEA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369AEE-4539-4213-B140-299295E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275F48-64B9-4B18-BF6A-B9C2BAC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45FA9-6057-40F9-B66E-B3A86061A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2709-4F18-4323-BB17-FFCBC645F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CC19-B149-4C71-BBAB-7D23F66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2529-2169-4892-87BF-96778716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3A81-BE3E-4B74-84A0-E3706C9D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7B7E-2B14-46AC-A71B-F3094512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A0C4-C0B9-43C2-81C3-F0DE7501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7B0D6-1EA6-4032-B653-675D91B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332E-4B89-4B09-8F0D-483DD503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0920-3B2D-44B6-8227-6580A143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5292-EFB9-42D4-8FC1-97B95B6A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056B1-C3D8-4524-8DDF-EB0AF45C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3662-6226-4C2C-B54F-B56A38F5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47C77-F7BB-40A3-9D90-77FA7D61B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B2D5F-F041-401A-AAD3-577E9E621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285D3-44EE-4004-94CE-EC61872F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8B72E-E876-4084-BF15-A4C417F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C3A63-5A7A-4E75-AEDC-992884BB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859F1-A9A0-4595-BD38-0F42366E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E688-3D49-498E-88DE-C1980D2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2630B-8468-47F2-BF50-7AE534F1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ECA68-1910-42B2-8887-49564EFA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8C92B-31EC-417F-B6AD-6EB612F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BD09C-9DAD-46B6-BB5D-0966BE8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543EA-6E1E-4FE3-8B64-0A91D92B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29F1B-50D6-4115-8D3A-D6A66375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7383A-439F-4181-AFF7-8AB61719E1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4F6F0B-6377-46C3-9374-23F7909F19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DCD938-617D-4D15-ADB5-A3F0180E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C1185B-2EBF-4FFA-B8F7-B7B50C60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7854-7D07-4DEC-BACD-F56A54BE59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9316-5B9B-4A5E-AB62-001D77C4FE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056-ACA6-4BA6-8C44-CB4115A011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E03-E2C5-4715-9823-44FD21BFC0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2068-645E-48E9-9537-293810A86F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116-6361-4025-B3B4-3A4148A0F7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7643-B12A-4C30-BA98-A2F1BB738F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7B8-7A98-42B0-BE3C-9E15B494B4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39B9-D3A3-4865-8522-6F1DAA487E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ECC-397F-4F41-A31C-D5F7FE3373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9957-AE5F-42B4-A5A3-3B0B1C81A5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2F97-DC8A-4C56-807D-8743164DAF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721-46D4-4E96-81AF-A10DD6FF16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ACF1-DA98-4628-85F6-F5B1B536B0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7391-F2A0-4B44-B687-EB4A96121D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685-4CC1-4BFB-B232-8265612D7B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54B-41F4-40EA-9EB1-217B2F2C59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CD6D-21CC-43DE-B24F-253A6FC4EB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5E01-6D3D-4E22-A12F-E3D4E609C6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186C-BB1D-4C87-B021-D275EF1542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F5C-7EDF-448C-867B-46B7CDDE41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387-083A-4816-B67F-77222228E8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456-1AB0-4B7B-9FE2-3B60F319E8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022-B2AA-45CB-A827-6C31A20CB1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927080" y="282744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135000" y="2771640"/>
            <a:ext cx="84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认 识 米   用 米 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度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65040" y="107784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我会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      里填上“＞”、“＜”或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下列长度按从大到小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7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9" name="椭圆 8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椭圆 10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7" name="文本框 11"/>
          <p:cNvSpPr/>
          <p:nvPr/>
        </p:nvSpPr>
        <p:spPr>
          <a:xfrm>
            <a:off x="1462320" y="4957920"/>
            <a:ext cx="60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米＞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米＞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6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厘米＞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6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厘米＞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厘米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18"/>
          <p:cNvSpPr/>
          <p:nvPr/>
        </p:nvSpPr>
        <p:spPr>
          <a:xfrm>
            <a:off x="18817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19"/>
          <p:cNvSpPr/>
          <p:nvPr/>
        </p:nvSpPr>
        <p:spPr>
          <a:xfrm>
            <a:off x="5889240" y="22795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20"/>
          <p:cNvSpPr/>
          <p:nvPr/>
        </p:nvSpPr>
        <p:spPr>
          <a:xfrm>
            <a:off x="1968120" y="2913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21"/>
          <p:cNvSpPr/>
          <p:nvPr/>
        </p:nvSpPr>
        <p:spPr>
          <a:xfrm>
            <a:off x="4883400" y="28670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椭圆 22"/>
          <p:cNvSpPr/>
          <p:nvPr/>
        </p:nvSpPr>
        <p:spPr>
          <a:xfrm>
            <a:off x="1085760" y="1727280"/>
            <a:ext cx="482760" cy="507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椭圆 23"/>
          <p:cNvSpPr/>
          <p:nvPr/>
        </p:nvSpPr>
        <p:spPr>
          <a:xfrm>
            <a:off x="1830240" y="2332080"/>
            <a:ext cx="482760" cy="507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椭圆 24"/>
          <p:cNvSpPr/>
          <p:nvPr/>
        </p:nvSpPr>
        <p:spPr>
          <a:xfrm>
            <a:off x="5838840" y="2360520"/>
            <a:ext cx="482760" cy="507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椭圆 25"/>
          <p:cNvSpPr/>
          <p:nvPr/>
        </p:nvSpPr>
        <p:spPr>
          <a:xfrm>
            <a:off x="1979640" y="2948040"/>
            <a:ext cx="480960" cy="50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椭圆 26"/>
          <p:cNvSpPr/>
          <p:nvPr/>
        </p:nvSpPr>
        <p:spPr>
          <a:xfrm>
            <a:off x="4834080" y="2943360"/>
            <a:ext cx="482400" cy="50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 txBox="1"/>
          <p:nvPr/>
        </p:nvSpPr>
        <p:spPr>
          <a:xfrm>
            <a:off x="1571760" y="1569960"/>
            <a:ext cx="600048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一节课我们学习的长度单位是什么？量比较短的物体可以用什么测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3078"/>
          <p:cNvSpPr/>
          <p:nvPr/>
        </p:nvSpPr>
        <p:spPr>
          <a:xfrm>
            <a:off x="2822400" y="3586320"/>
            <a:ext cx="39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同学们在刻度尺上指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米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米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米的实际长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2"/>
          <p:cNvGrpSpPr/>
          <p:nvPr/>
        </p:nvGrpSpPr>
        <p:grpSpPr>
          <a:xfrm>
            <a:off x="0" y="101520"/>
            <a:ext cx="4890960" cy="527040"/>
            <a:chOff x="0" y="101520"/>
            <a:chExt cx="4890960" cy="527040"/>
          </a:xfrm>
        </p:grpSpPr>
        <p:pic>
          <p:nvPicPr>
            <p:cNvPr id="1001" name="圆角矩形 2" descr=""/>
            <p:cNvPicPr/>
            <p:nvPr/>
          </p:nvPicPr>
          <p:blipFill>
            <a:blip r:embed="rId1"/>
            <a:stretch/>
          </p:blipFill>
          <p:spPr>
            <a:xfrm>
              <a:off x="241560" y="101520"/>
              <a:ext cx="46494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2" name="组合 4"/>
            <p:cNvGrpSpPr/>
            <p:nvPr/>
          </p:nvGrpSpPr>
          <p:grpSpPr>
            <a:xfrm>
              <a:off x="0" y="196560"/>
              <a:ext cx="653400" cy="274320"/>
              <a:chOff x="0" y="196560"/>
              <a:chExt cx="653400" cy="274320"/>
            </a:xfrm>
          </p:grpSpPr>
          <p:sp>
            <p:nvSpPr>
              <p:cNvPr id="1003" name="椭圆 4"/>
              <p:cNvSpPr/>
              <p:nvPr/>
            </p:nvSpPr>
            <p:spPr>
              <a:xfrm rot="16200000">
                <a:off x="277200" y="350640"/>
                <a:ext cx="105480" cy="13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6160" y="286920"/>
                <a:ext cx="237240" cy="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椭圆 7"/>
              <p:cNvSpPr/>
              <p:nvPr/>
            </p:nvSpPr>
            <p:spPr>
              <a:xfrm rot="16200000">
                <a:off x="277200" y="215280"/>
                <a:ext cx="105480" cy="13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6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416160" y="206640"/>
                <a:ext cx="237240" cy="8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844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828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636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1" name="Text Box 5"/>
          <p:cNvSpPr/>
          <p:nvPr/>
        </p:nvSpPr>
        <p:spPr>
          <a:xfrm>
            <a:off x="754200" y="1238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景，新知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文本框 4102"/>
          <p:cNvSpPr/>
          <p:nvPr/>
        </p:nvSpPr>
        <p:spPr>
          <a:xfrm>
            <a:off x="743040" y="4941720"/>
            <a:ext cx="76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量比较长的物体，通常用“米”作单位。米可以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”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4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6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4" name="Picture 15" descr="E:\2015春（伍倩倩）\六年级上册课件\小男孩.jpg"/>
          <p:cNvPicPr/>
          <p:nvPr/>
        </p:nvPicPr>
        <p:blipFill>
          <a:blip r:embed="rId8"/>
          <a:stretch/>
        </p:blipFill>
        <p:spPr>
          <a:xfrm>
            <a:off x="7674120" y="1630440"/>
            <a:ext cx="1000080" cy="161136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21"/>
          <p:cNvSpPr/>
          <p:nvPr/>
        </p:nvSpPr>
        <p:spPr>
          <a:xfrm>
            <a:off x="6578640" y="1630440"/>
            <a:ext cx="95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量一量，黑板有多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圆角矩形标注 27"/>
          <p:cNvSpPr/>
          <p:nvPr/>
        </p:nvSpPr>
        <p:spPr>
          <a:xfrm>
            <a:off x="6473880" y="1706400"/>
            <a:ext cx="1128600" cy="1249560"/>
          </a:xfrm>
          <a:prstGeom prst="wedgeRoundRectCallout">
            <a:avLst>
              <a:gd name="adj1" fmla="val 60004"/>
              <a:gd name="adj2" fmla="val -1134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内容占位符 7184" descr="18"/>
          <p:cNvPicPr/>
          <p:nvPr/>
        </p:nvPicPr>
        <p:blipFill>
          <a:blip r:embed="rId9"/>
          <a:stretch/>
        </p:blipFill>
        <p:spPr>
          <a:xfrm>
            <a:off x="652320" y="1374840"/>
            <a:ext cx="5821560" cy="2527200"/>
          </a:xfrm>
          <a:prstGeom prst="rect">
            <a:avLst/>
          </a:prstGeom>
          <a:ln w="0">
            <a:noFill/>
          </a:ln>
        </p:spPr>
      </p:pic>
      <p:sp>
        <p:nvSpPr>
          <p:cNvPr id="1028" name="八边形 1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4" descr="u=2444860668,2519732933&amp;fm=23&amp;gp=0.jpg"/>
          <p:cNvPicPr/>
          <p:nvPr/>
        </p:nvPicPr>
        <p:blipFill>
          <a:blip r:embed="rId1"/>
          <a:stretch/>
        </p:blipFill>
        <p:spPr>
          <a:xfrm>
            <a:off x="4929120" y="2997360"/>
            <a:ext cx="3589560" cy="2286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5125" descr="米尺"/>
          <p:cNvPicPr/>
          <p:nvPr/>
        </p:nvPicPr>
        <p:blipFill>
          <a:blip r:embed="rId2"/>
          <a:stretch/>
        </p:blipFill>
        <p:spPr>
          <a:xfrm>
            <a:off x="539640" y="1773360"/>
            <a:ext cx="8026560" cy="520560"/>
          </a:xfrm>
          <a:prstGeom prst="rect">
            <a:avLst/>
          </a:prstGeom>
          <a:ln w="0">
            <a:noFill/>
          </a:ln>
        </p:spPr>
      </p:pic>
      <p:grpSp>
        <p:nvGrpSpPr>
          <p:cNvPr id="103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2" name="圆角矩形 3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4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2" name="缺角矩形 16"/>
          <p:cNvSpPr/>
          <p:nvPr/>
        </p:nvSpPr>
        <p:spPr>
          <a:xfrm>
            <a:off x="1092240" y="3681360"/>
            <a:ext cx="222120" cy="192240"/>
          </a:xfrm>
          <a:custGeom>
            <a:avLst/>
            <a:gdLst>
              <a:gd name="textAreaLeft" fmla="*/ 22680 w 222120"/>
              <a:gd name="textAreaRight" fmla="*/ 199440 w 222120"/>
              <a:gd name="textAreaTop" fmla="*/ 22680 h 192240"/>
              <a:gd name="textAreaBottom" fmla="*/ 169560 h 192240"/>
            </a:gdLst>
            <a:ahLst/>
            <a:rect l="textAreaLeft" t="textAreaTop" r="textAreaRight" b="textAreaBottom"/>
            <a:pathLst>
              <a:path w="249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351" y="21600"/>
                </a:lnTo>
                <a:arcTo wR="3600" hR="3600" stAng="10800000" swAng="5400000"/>
                <a:lnTo>
                  <a:pt x="249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34373"/>
              </a:gs>
            </a:gsLst>
            <a:lin ang="5400000"/>
          </a:gra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4"/>
          <p:cNvSpPr/>
          <p:nvPr/>
        </p:nvSpPr>
        <p:spPr>
          <a:xfrm>
            <a:off x="1405080" y="3511440"/>
            <a:ext cx="2404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宋体"/>
              </a:rPr>
              <a:t>一米有多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7411" descr="44444444444"/>
          <p:cNvPicPr/>
          <p:nvPr/>
        </p:nvPicPr>
        <p:blipFill>
          <a:blip r:embed="rId1"/>
          <a:stretch/>
        </p:blipFill>
        <p:spPr>
          <a:xfrm>
            <a:off x="824040" y="2225520"/>
            <a:ext cx="7493040" cy="1635120"/>
          </a:xfrm>
          <a:prstGeom prst="rect">
            <a:avLst/>
          </a:prstGeom>
          <a:ln w="0">
            <a:noFill/>
          </a:ln>
        </p:spPr>
      </p:pic>
      <p:sp>
        <p:nvSpPr>
          <p:cNvPr id="1045" name="文本框 17412"/>
          <p:cNvSpPr/>
          <p:nvPr/>
        </p:nvSpPr>
        <p:spPr>
          <a:xfrm>
            <a:off x="1718640" y="4869000"/>
            <a:ext cx="23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7" name="圆角矩形 3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49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7" name="八边形 1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8" name=""/>
          <p:cNvGraphicFramePr/>
          <p:nvPr/>
        </p:nvGraphicFramePr>
        <p:xfrm>
          <a:off x="457200" y="2079720"/>
          <a:ext cx="8229600" cy="1888920"/>
        </p:xfrm>
        <a:graphic>
          <a:graphicData uri="http://schemas.openxmlformats.org/drawingml/2006/table">
            <a:tbl>
              <a:tblPr/>
              <a:tblGrid>
                <a:gridCol w="3178080"/>
                <a:gridCol w="2737080"/>
                <a:gridCol w="2314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估一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量一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学书封面短边的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约（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黑板的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约（       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     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室的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约（       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     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0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2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5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0" name="文本框 1"/>
          <p:cNvSpPr/>
          <p:nvPr/>
        </p:nvSpPr>
        <p:spPr>
          <a:xfrm>
            <a:off x="4753800" y="258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2"/>
          <p:cNvSpPr/>
          <p:nvPr/>
        </p:nvSpPr>
        <p:spPr>
          <a:xfrm>
            <a:off x="6962760" y="2584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16"/>
          <p:cNvGrpSpPr/>
          <p:nvPr/>
        </p:nvGrpSpPr>
        <p:grpSpPr>
          <a:xfrm>
            <a:off x="4857840" y="3044880"/>
            <a:ext cx="2752200" cy="919800"/>
            <a:chOff x="4857840" y="3044880"/>
            <a:chExt cx="2752200" cy="919800"/>
          </a:xfrm>
        </p:grpSpPr>
        <p:sp>
          <p:nvSpPr>
            <p:cNvPr id="1073" name="文本框 4"/>
            <p:cNvSpPr/>
            <p:nvPr/>
          </p:nvSpPr>
          <p:spPr>
            <a:xfrm>
              <a:off x="4857840" y="3044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5"/>
            <p:cNvSpPr/>
            <p:nvPr/>
          </p:nvSpPr>
          <p:spPr>
            <a:xfrm>
              <a:off x="7114320" y="3045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11"/>
            <p:cNvSpPr/>
            <p:nvPr/>
          </p:nvSpPr>
          <p:spPr>
            <a:xfrm>
              <a:off x="4956840" y="3504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文本框 13"/>
            <p:cNvSpPr/>
            <p:nvPr/>
          </p:nvSpPr>
          <p:spPr>
            <a:xfrm>
              <a:off x="7246440" y="3504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8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0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文本框 1"/>
          <p:cNvSpPr/>
          <p:nvPr/>
        </p:nvSpPr>
        <p:spPr>
          <a:xfrm>
            <a:off x="957240" y="2244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和厘米都是长度单位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厘米。量比较长的物体或距离时，应该用米尺量，用米作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65040" y="2006640"/>
            <a:ext cx="822960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量一个物体时，米尺的（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）刻度要对准物体的左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4"/>
          <p:cNvGrpSpPr/>
          <p:nvPr/>
        </p:nvGrpSpPr>
        <p:grpSpPr>
          <a:xfrm>
            <a:off x="0" y="190440"/>
            <a:ext cx="441360" cy="326880"/>
            <a:chOff x="0" y="190440"/>
            <a:chExt cx="441360" cy="326880"/>
          </a:xfrm>
        </p:grpSpPr>
        <p:sp>
          <p:nvSpPr>
            <p:cNvPr id="1091" name="椭圆 11"/>
            <p:cNvSpPr/>
            <p:nvPr/>
          </p:nvSpPr>
          <p:spPr>
            <a:xfrm rot="16200000">
              <a:off x="239040" y="396720"/>
              <a:ext cx="118440" cy="1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  <a:effectLst>
              <a:outerShdw dist="12727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2" name="椭圆 13" descr=""/>
            <p:cNvPicPr/>
            <p:nvPr/>
          </p:nvPicPr>
          <p:blipFill>
            <a:blip r:embed="rId1"/>
            <a:stretch/>
          </p:blipFill>
          <p:spPr>
            <a:xfrm>
              <a:off x="224280" y="341640"/>
              <a:ext cx="217080" cy="1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椭圆 29"/>
            <p:cNvSpPr/>
            <p:nvPr/>
          </p:nvSpPr>
          <p:spPr>
            <a:xfrm rot="16200000">
              <a:off x="239040" y="245520"/>
              <a:ext cx="118440" cy="1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  <a:effectLst>
              <a:outerShdw dist="12727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4" name="椭圆 30" descr=""/>
            <p:cNvPicPr/>
            <p:nvPr/>
          </p:nvPicPr>
          <p:blipFill>
            <a:blip r:embed="rId2"/>
            <a:stretch/>
          </p:blipFill>
          <p:spPr>
            <a:xfrm>
              <a:off x="224280" y="207720"/>
              <a:ext cx="217080" cy="1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0" y="36072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圆角矩形 32" descr=""/>
            <p:cNvPicPr/>
            <p:nvPr/>
          </p:nvPicPr>
          <p:blipFill>
            <a:blip r:embed="rId4"/>
            <a:stretch/>
          </p:blipFill>
          <p:spPr>
            <a:xfrm>
              <a:off x="0" y="32724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圆角矩形 33" descr=""/>
            <p:cNvPicPr/>
            <p:nvPr/>
          </p:nvPicPr>
          <p:blipFill>
            <a:blip r:embed="rId5"/>
            <a:stretch/>
          </p:blipFill>
          <p:spPr>
            <a:xfrm>
              <a:off x="0" y="22392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圆角矩形 34" descr=""/>
            <p:cNvPicPr/>
            <p:nvPr/>
          </p:nvPicPr>
          <p:blipFill>
            <a:blip r:embed="rId6"/>
            <a:stretch/>
          </p:blipFill>
          <p:spPr>
            <a:xfrm>
              <a:off x="0" y="190440"/>
              <a:ext cx="36612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0" name="圆角矩形 4" descr=""/>
            <p:cNvPicPr/>
            <p:nvPr/>
          </p:nvPicPr>
          <p:blipFill>
            <a:blip r:embed="rId7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2" name="椭圆 8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椭圆 10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1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16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0" name="文本框 3"/>
          <p:cNvSpPr/>
          <p:nvPr/>
        </p:nvSpPr>
        <p:spPr>
          <a:xfrm>
            <a:off x="5749920" y="20224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279360" y="89496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在（   ）里填上适当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一支粉笔的长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      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掌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(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铅笔盒长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    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毛巾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(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室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                 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学楼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(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棵树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(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的身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5(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明的身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0(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   1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铅笔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(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场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(     )                                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室门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3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5" name="椭圆 8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椭圆 10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3" name="文本框 5"/>
          <p:cNvSpPr/>
          <p:nvPr/>
        </p:nvSpPr>
        <p:spPr>
          <a:xfrm>
            <a:off x="3852360" y="1363680"/>
            <a:ext cx="6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7"/>
          <p:cNvSpPr/>
          <p:nvPr/>
        </p:nvSpPr>
        <p:spPr>
          <a:xfrm>
            <a:off x="2975040" y="1882800"/>
            <a:ext cx="10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11"/>
          <p:cNvSpPr/>
          <p:nvPr/>
        </p:nvSpPr>
        <p:spPr>
          <a:xfrm>
            <a:off x="2139840" y="247176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13"/>
          <p:cNvSpPr/>
          <p:nvPr/>
        </p:nvSpPr>
        <p:spPr>
          <a:xfrm>
            <a:off x="2527560" y="290664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26"/>
          <p:cNvSpPr/>
          <p:nvPr/>
        </p:nvSpPr>
        <p:spPr>
          <a:xfrm>
            <a:off x="3175560" y="3424320"/>
            <a:ext cx="6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27"/>
          <p:cNvSpPr/>
          <p:nvPr/>
        </p:nvSpPr>
        <p:spPr>
          <a:xfrm>
            <a:off x="2265120" y="394164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28"/>
          <p:cNvSpPr/>
          <p:nvPr/>
        </p:nvSpPr>
        <p:spPr>
          <a:xfrm>
            <a:off x="7043760" y="142092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29"/>
          <p:cNvSpPr/>
          <p:nvPr/>
        </p:nvSpPr>
        <p:spPr>
          <a:xfrm>
            <a:off x="7328880" y="1901880"/>
            <a:ext cx="6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30"/>
          <p:cNvSpPr/>
          <p:nvPr/>
        </p:nvSpPr>
        <p:spPr>
          <a:xfrm>
            <a:off x="7696800" y="238284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1"/>
          <p:cNvSpPr/>
          <p:nvPr/>
        </p:nvSpPr>
        <p:spPr>
          <a:xfrm>
            <a:off x="7457040" y="298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2"/>
          <p:cNvSpPr/>
          <p:nvPr/>
        </p:nvSpPr>
        <p:spPr>
          <a:xfrm>
            <a:off x="7505640" y="34862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33"/>
          <p:cNvSpPr/>
          <p:nvPr/>
        </p:nvSpPr>
        <p:spPr>
          <a:xfrm>
            <a:off x="7601760" y="40068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6:19Z</dcterms:modified>
  <cp:revision>1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